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ED9-3654-47EB-B93A-19A9FFFA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digest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lbict.co.uk/interactive/science/hea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respir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986-93EC-4BC7-BBE1-EC4BBCD0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06C-B069-4BDB-B29F-B3B31DCC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728-E481-46E7-9EDD-5D12F33C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8E0-301D-4054-BC6B-D77F5400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823-F311-4E9B-A74D-F3B2FA9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F71-50FF-4D5F-B1FC-704A0AE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9F2-83B0-41F9-B085-BEAA1D5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DB8-4B47-422F-8867-881A8D8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707-E087-4D01-B34C-1C0CE1F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45E-49D2-4150-B82C-897D6D0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D13-2330-4063-B5A5-B12C3E4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945-DEE5-43FD-AA3A-3D222CB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720-4D39-4DD6-B2A5-A18BEE53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DSquiz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, Circulatory &amp; Respiratory Syste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R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respiratory_system/quiz75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hibition came through the Ontario Science Centre. The focus of this exhibit was the heart, but there are other exhibits that features other organs an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g-7RxM1x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609480"/>
            <a:ext cx="3732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duode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21040" y="609480"/>
            <a:ext cx="510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 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ulmonary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pulmonary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C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circulatory_system/quiz758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2240" y="609480"/>
            <a:ext cx="46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 or nasal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l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(lef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2-03T17:53:03Z</dcterms:modified>
  <cp:revision>16</cp:revision>
  <dc:subject/>
  <dc:title>Digestive &amp; Circulatory System Review</dc:title>
</cp:coreProperties>
</file>